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D5A-38F4-4416-918E-DE007323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8B5-935C-4679-A66A-3D239EA9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E828-3C49-4FB5-85FE-7137C565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11D4-9DE4-465A-AB95-FB4D179C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8168-59EB-417C-BCC4-F041F772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E088-FA84-4F3F-8FC3-210A59FC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67F7-194A-49D5-ACFF-329540EB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16CA-FE88-4A09-9372-77C393F3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C9C9-385E-42B0-AE21-8A29D055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8E94-4398-416B-A2D4-770444B4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2358-8A95-43D8-9ED8-12A2958F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701E-EBD0-4B54-9011-43472B88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F187-A4F3-4941-86BB-F8B9E624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25FF-4319-4D32-840E-317547A3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2441-D258-4FF6-BCF2-A4ED1126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2B04-C403-4337-9628-31F5ABCC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176D-AB95-49BE-8219-7728DFE6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A3B-2EA2-48D2-9D9D-82428E24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65E-7324-4EE7-B674-A57955D6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560-AFF8-4FF3-8589-DCD93CC1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3388-100E-4381-98F8-D120AF49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5F9-B3EC-41E8-B3F2-16E6BC29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F6D-5693-45E1-82A4-93456649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C7F-ADDC-4065-8226-CFAB5C3F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266B-F2F2-40DF-944A-DD6E8E68E3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5A96-69ED-4394-8900-A6A6941C8F0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Picture 5" descr="STEM image of atom"/>
          <p:cNvPicPr/>
          <p:nvPr/>
        </p:nvPicPr>
        <p:blipFill>
          <a:blip r:embed="rId1"/>
          <a:stretch/>
        </p:blipFill>
        <p:spPr>
          <a:xfrm>
            <a:off x="914400" y="144792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uall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5" descr="Dalton's Theory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000 Years After Democritus 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give or take a few)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experimental evidence that atoms had “parts” to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ically these parts are call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__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learn about three of these particles (the ones that matter to chemistry and that have practical applications tod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omson (1897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a subatomic particle in all types of materials that he te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article had a _________ 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called it the ______________ (electrical parti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JJThomson"/>
          <p:cNvPicPr/>
          <p:nvPr/>
        </p:nvPicPr>
        <p:blipFill>
          <a:blip r:embed="rId1"/>
          <a:stretch/>
        </p:blipFill>
        <p:spPr>
          <a:xfrm>
            <a:off x="685800" y="1752480"/>
            <a:ext cx="373392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thode Ray Tub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Picture 5" descr="cathode ray and magnet"/>
          <p:cNvPicPr/>
          <p:nvPr/>
        </p:nvPicPr>
        <p:blipFill>
          <a:blip r:embed="rId1"/>
          <a:stretch/>
        </p:blipFill>
        <p:spPr>
          <a:xfrm>
            <a:off x="304920" y="1523880"/>
            <a:ext cx="838188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xperi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6" name="Picture 5" descr="cathode ray schematic"/>
          <p:cNvPicPr/>
          <p:nvPr/>
        </p:nvPicPr>
        <p:blipFill>
          <a:blip r:embed="rId1"/>
          <a:stretch/>
        </p:blipFill>
        <p:spPr>
          <a:xfrm>
            <a:off x="685800" y="1523880"/>
            <a:ext cx="7696080" cy="4508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6400800" y="2209680"/>
            <a:ext cx="1371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99"/>
                </a:solidFill>
                <a:latin typeface="Arial"/>
              </a:rPr>
              <a:t>Attracted to + end meaning…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>
            <a:off x="6781680" y="2590920"/>
            <a:ext cx="228600" cy="228600"/>
          </a:xfrm>
          <a:prstGeom prst="ellipse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his experimental evidence show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negatively charged particles were present in every ______________ that he te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ust be a _____________________________of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others had hypothesized about particles, this was the ________experimental evidence of th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omson’s Mode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_________________ mode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were known to be ____________ over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knew of a specific negative part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, there had to be something____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d no evidence of a positive particle so it was  not part of hi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lum Pudding Mode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“________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ther det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t with experimental evidence available at the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7" descr="Plum Pudding Model"/>
          <p:cNvPicPr/>
          <p:nvPr/>
        </p:nvPicPr>
        <p:blipFill>
          <a:blip r:embed="rId1"/>
          <a:stretch/>
        </p:blipFill>
        <p:spPr>
          <a:xfrm>
            <a:off x="380880" y="1523880"/>
            <a:ext cx="419112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rnest Rutherfor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5" descr="Rutherford"/>
          <p:cNvPicPr/>
          <p:nvPr/>
        </p:nvPicPr>
        <p:blipFill>
          <a:blip r:embed="rId1"/>
          <a:stretch/>
        </p:blipFill>
        <p:spPr>
          <a:xfrm>
            <a:off x="2819520" y="1523880"/>
            <a:ext cx="30351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Rutherford’s Gold Foil Experimen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ing to support the “_________________ Mode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______________ particles (which are positively charged) as projectiles and shoot them toward a very thin layer of ______ (he repeated the experiment with other______ and got similar resul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s was that the alpha particles would “plow through” the “plum pudding matrix unaffected – think of shooting a bullet through a jello fruit m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n introduction to atomic structure (with a bit of history thrown in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 Back- no such thing as an 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“philosopher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ideas were based on thoughts,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attempt at an atomic theory wa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\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xperi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Picture 5" descr="Gold Foil Set U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Resul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ast majority of the particles went right through, unaffected just as he hypothes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ll percentage were deflected off at an 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ry small percentage _____________ almost directly 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 were “lost” or unaccount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Conclu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the atom is empty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to support this is that most alpha particles were not affected by the “solid” gold f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must be someth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___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caused some alpha particles to be deflected or shot right 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ake sure you understand why the experiment supports these two fac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5" descr="Gold Foil Expt Conclusion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816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309600" y="5218200"/>
            <a:ext cx="314028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If the Plum Pudding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Had been correct. This w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Rutherford’s Hypoth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181480" y="5257800"/>
            <a:ext cx="335304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Model of an atom after the Gold Foil Experimen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small is the nucleu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expanding a single atom to the size of a pro football stad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 would be about the size of a _______________placed on the ____ yard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is smal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therford said that hitting the nucleus was like finding “a fly in a cathedra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t too long thereaf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pecific positive particle was discovered called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_________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positive partic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______________particle was discovered that explain the total mass of atoms. This was the _______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as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_____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iscovered last (about 1932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utr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by _______________in 19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grandparents were likely alive th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__” particle- could use electrical of magnetic properties to identify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6" descr="chadwick"/>
          <p:cNvPicPr/>
          <p:nvPr/>
        </p:nvPicPr>
        <p:blipFill>
          <a:blip r:embed="rId1"/>
          <a:stretch/>
        </p:blipFill>
        <p:spPr>
          <a:xfrm>
            <a:off x="838080" y="1523880"/>
            <a:ext cx="3532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Bohr Mode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ght to explain the electrons in more det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called the __________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very popular and still exists in many people’s mi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Bohr"/>
          <p:cNvPicPr/>
          <p:nvPr/>
        </p:nvPicPr>
        <p:blipFill>
          <a:blip r:embed="rId1"/>
          <a:stretch/>
        </p:blipFill>
        <p:spPr>
          <a:xfrm>
            <a:off x="0" y="1523880"/>
            <a:ext cx="4724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ohr Model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1" name="Picture 5" descr="planetary model"/>
          <p:cNvPicPr/>
          <p:nvPr/>
        </p:nvPicPr>
        <p:blipFill>
          <a:blip r:embed="rId1"/>
          <a:stretch/>
        </p:blipFill>
        <p:spPr>
          <a:xfrm>
            <a:off x="1752480" y="1295280"/>
            <a:ext cx="571500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l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s is w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_____like little _______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’t ____________________the exact location and path of an elect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learn much more about this when we study quantum mechan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mocritus said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a piece of go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 it in ha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doing this and eventually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’ll get to a piece that can’t be divided any 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ek word for “indivisible”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really a theory based on experimental evidence- more of a “______________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urrent (quantum) mode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called an _________________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s and neutrons are in the very small, very dense __________________ (almost all of the mass of the atom is ther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_ are located outside of the 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mething Like One of Thes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7" name="Picture 6" descr="electron cloud model"/>
          <p:cNvPicPr/>
          <p:nvPr/>
        </p:nvPicPr>
        <p:blipFill>
          <a:blip r:embed="rId1"/>
          <a:stretch/>
        </p:blipFill>
        <p:spPr>
          <a:xfrm>
            <a:off x="0" y="16765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electroncloud"/>
          <p:cNvPicPr/>
          <p:nvPr/>
        </p:nvPicPr>
        <p:blipFill>
          <a:blip r:embed="rId2"/>
          <a:stretch/>
        </p:blipFill>
        <p:spPr>
          <a:xfrm>
            <a:off x="4267080" y="2438280"/>
            <a:ext cx="48769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parts of the ato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28600" y="1600200"/>
          <a:ext cx="8839080" cy="41590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143000"/>
                <a:gridCol w="1676520"/>
                <a:gridCol w="19047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ver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am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cle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ldste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r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am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cle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dwi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ctr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am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s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cle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om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Rectangle 59"/>
          <p:cNvSpPr/>
          <p:nvPr/>
        </p:nvSpPr>
        <p:spPr>
          <a:xfrm>
            <a:off x="838080" y="5943600"/>
            <a:ext cx="77724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The actual masses are 1.7 x 10</a:t>
            </a:r>
            <a:r>
              <a:rPr b="1" lang="en-US" sz="1800" spc="-1" strike="noStrike" baseline="30000">
                <a:solidFill>
                  <a:srgbClr val="010199"/>
                </a:solidFill>
                <a:latin typeface="Arial"/>
              </a:rPr>
              <a:t>-24 </a:t>
            </a: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g for the proton and neutron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9.1 x 10</a:t>
            </a:r>
            <a:r>
              <a:rPr b="1" lang="en-US" sz="1800" spc="-1" strike="noStrike" baseline="30000">
                <a:solidFill>
                  <a:srgbClr val="010199"/>
                </a:solidFill>
                <a:latin typeface="Arial"/>
              </a:rPr>
              <a:t>-28</a:t>
            </a: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 g for the electron. “amu” is a convenient way of describ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10199"/>
                </a:solidFill>
                <a:latin typeface="Arial"/>
              </a:rPr>
              <a:t>relative ma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61"/>
          <p:cNvSpPr/>
          <p:nvPr/>
        </p:nvSpPr>
        <p:spPr>
          <a:xfrm>
            <a:off x="2057400" y="4724280"/>
            <a:ext cx="304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preting Atomic Symbo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a periodic table every atomic symbol is accompanied by two nu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have more than this but those two numbers (the_________________________________________) are always gi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not  to memorize any of those numbers, but you will learn how to interpret and apply th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preting Atomic Symbols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icially,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____________________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supposed to be placed at the bottom left of the atomic symbol and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________________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e top l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L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3809880" y="36576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381204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2209680" y="3809880"/>
            <a:ext cx="1447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6"/>
          <p:cNvSpPr/>
          <p:nvPr/>
        </p:nvSpPr>
        <p:spPr>
          <a:xfrm>
            <a:off x="2286000" y="4952880"/>
            <a:ext cx="1447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609480" y="3657600"/>
            <a:ext cx="15242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Mass Nu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380880" y="4800600"/>
            <a:ext cx="18288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tomic Nu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preting Atomic Symbols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_______________ = the number of protons in the nucleus of the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 atoms “ID #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also equals the # electrons in the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 (atoms are neutral so # + = # -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______ = # protons and neutrons in the nucleus (mass of electrons is so small we ignore it in most cas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preting Atomic Symbols 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the number of neutrons can be found by the following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#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protons + #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#                #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#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Li atom previously that would be    7- 3 = 4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609480" y="3657600"/>
            <a:ext cx="7467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 flipH="1">
            <a:off x="4800240" y="2514600"/>
            <a:ext cx="114300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 couple of examp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#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 # =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proto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electro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neutrons = 31-15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# = 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 # =  80 a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protons = 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electrons = 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neutrons = 80-35 = 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1828800" y="19051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1828800" y="26668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6019920" y="26668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6019920" y="18288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5 Facts you can get from every atomic symbo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00+ elements x 5 = more than 500 facts you can get from atomic symbo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ou are not expected to memorize any numbers on the periodic table. Just to know how to use them to get inform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sotop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eality, all atoms of an element are not iden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ll have the same number of 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vary in the number of 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s of an atom with different numbers of neutrons are calle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atomic number but a different mass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ur Guy Democritu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5" descr="Democritus"/>
          <p:cNvPicPr/>
          <p:nvPr/>
        </p:nvPicPr>
        <p:blipFill>
          <a:blip r:embed="rId1"/>
          <a:stretch/>
        </p:blipFill>
        <p:spPr>
          <a:xfrm>
            <a:off x="1066680" y="1523880"/>
            <a:ext cx="6934320" cy="4943520"/>
          </a:xfrm>
          <a:prstGeom prst="rect">
            <a:avLst/>
          </a:prstGeom>
          <a:ln w="0">
            <a:noFill/>
          </a:ln>
        </p:spPr>
      </p:pic>
      <p:sp>
        <p:nvSpPr>
          <p:cNvPr id="106" name="Oval 6"/>
          <p:cNvSpPr/>
          <p:nvPr/>
        </p:nvSpPr>
        <p:spPr>
          <a:xfrm>
            <a:off x="5867280" y="1066680"/>
            <a:ext cx="3276720" cy="28958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wasn’t really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ory- more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hunch. I h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experi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iden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952880" y="2819520"/>
            <a:ext cx="1295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sotopes 2; nam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isotope is named for its 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_____________ of carbon with a mass number of 14 is called carbon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omic number does not get stated explicitly because once you say Carbon, the atomic number must be 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topes of an atom act the same 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sotopes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toms have only one isotope while others may have a doz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common isotope is still an isotope. In other words there is not a “normal” atom (like Carbon-12) and then isotopes. Carbon-12, carbon-13 and carbon-14 are all isotopes of carb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f You Could See an Ato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5" name="Picture 5" descr="isotopes"/>
          <p:cNvPicPr/>
          <p:nvPr/>
        </p:nvPicPr>
        <p:blipFill>
          <a:blip r:embed="rId1"/>
          <a:stretch/>
        </p:blipFill>
        <p:spPr>
          <a:xfrm>
            <a:off x="609480" y="1447920"/>
            <a:ext cx="8229600" cy="37796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609480" y="5257800"/>
            <a:ext cx="812160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99"/>
                </a:solidFill>
                <a:latin typeface="Arial"/>
              </a:rPr>
              <a:t>Note the electron cloud around the nucleus and the small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99"/>
                </a:solidFill>
                <a:latin typeface="Arial"/>
              </a:rPr>
              <a:t>of the nucleus compared to the entire atom. If drawn to scale the nucleus would be a miniscule dot in this im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7"/>
          <p:cNvSpPr/>
          <p:nvPr/>
        </p:nvSpPr>
        <p:spPr>
          <a:xfrm flipH="1" flipV="1">
            <a:off x="2742840" y="4419720"/>
            <a:ext cx="152280" cy="914400"/>
          </a:xfrm>
          <a:prstGeom prst="line">
            <a:avLst/>
          </a:prstGeom>
          <a:ln w="284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8"/>
          <p:cNvSpPr/>
          <p:nvPr/>
        </p:nvSpPr>
        <p:spPr>
          <a:xfrm flipV="1">
            <a:off x="2895480" y="4343400"/>
            <a:ext cx="2667240" cy="990720"/>
          </a:xfrm>
          <a:prstGeom prst="line">
            <a:avLst/>
          </a:prstGeom>
          <a:ln w="284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9"/>
          <p:cNvSpPr/>
          <p:nvPr/>
        </p:nvSpPr>
        <p:spPr>
          <a:xfrm flipV="1">
            <a:off x="2057400" y="3276360"/>
            <a:ext cx="76320" cy="2438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 flipV="1">
            <a:off x="2057400" y="3276360"/>
            <a:ext cx="4267080" cy="2438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04920" y="1600200"/>
          <a:ext cx="8381880" cy="4530600"/>
        </p:xfrm>
        <a:graphic>
          <a:graphicData uri="http://schemas.openxmlformats.org/drawingml/2006/table">
            <a:tbl>
              <a:tblPr/>
              <a:tblGrid>
                <a:gridCol w="1752480"/>
                <a:gridCol w="1447920"/>
                <a:gridCol w="1295280"/>
                <a:gridCol w="1143000"/>
                <a:gridCol w="990720"/>
                <a:gridCol w="838080"/>
                <a:gridCol w="91440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10199"/>
                          </a:solidFill>
                          <a:uFillTx/>
                          <a:latin typeface="Arial"/>
                        </a:rPr>
                        <a:t>Isoto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10199"/>
                          </a:solidFill>
                          <a:uFillTx/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10199"/>
                          </a:solidFill>
                          <a:uFillTx/>
                          <a:latin typeface="Arial"/>
                        </a:rPr>
                        <a:t>Atomic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10199"/>
                          </a:solidFill>
                          <a:uFillTx/>
                          <a:latin typeface="Arial"/>
                        </a:rPr>
                        <a:t>Mass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10199"/>
                          </a:solidFill>
                          <a:uFillTx/>
                          <a:latin typeface="Arial"/>
                        </a:rPr>
                        <a:t># p</a:t>
                      </a:r>
                      <a:r>
                        <a:rPr b="0" lang="en-US" sz="2800" spc="-1" strike="noStrike" baseline="30000">
                          <a:solidFill>
                            <a:srgbClr val="010199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10199"/>
                          </a:solidFill>
                          <a:uFillTx/>
                          <a:latin typeface="Arial"/>
                        </a:rPr>
                        <a:t># 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10199"/>
                          </a:solidFill>
                          <a:uFillTx/>
                          <a:latin typeface="Arial"/>
                        </a:rPr>
                        <a:t># 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d-2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b-2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d-2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b-2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d-2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b-2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Line 107"/>
          <p:cNvSpPr/>
          <p:nvPr/>
        </p:nvSpPr>
        <p:spPr>
          <a:xfrm>
            <a:off x="8305920" y="1676520"/>
            <a:ext cx="228600" cy="0"/>
          </a:xfrm>
          <a:prstGeom prst="line">
            <a:avLst/>
          </a:prstGeom>
          <a:ln w="284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ecific Isotopes vs averag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riodic table shows the average of all the isotopes of an elements, based on their relative am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like your final grade is an average based on whole numbers, _____________________on the table is an a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topes are not present in = amou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one isotope predomin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verage Atomic Mass Calculations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weighted a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ll of your grades in a class are 90’s and 60’s then the average will depend on the relative amounts of e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have 6 90’s and 2 60’s, then you can say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verage will be between 60 and 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ill be closer to 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verage Atomic Mass Calculations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based on percentages or relative amou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centages add to 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 amounts (or abundances) add to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 1: 80% = .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 2: 6.52 % = .65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 3: 0.5% = 0.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# sig figs stays the sa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verage Atomic Mass 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mple Problem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ample of neon is analyzed in a device called a mass spectrometer and found to have the following isotope compos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n-20 (20.067 amu) = 87.3% (or .873 abunda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n-21 (21.059 amu) = 10.6% (or .106 abunda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n-22 (22.073 amu) = 2.1 % (or .021% abunda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average atomic mass of neon to 3 decimal pl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ution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- think about a couple of thing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verage must be between 20 and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be closer to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up looks like th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ass of isotope 1)(abundance of isotope 1) 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ass of isotope 2)(abundance of isotope 2) 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ass of isotope 3)(abundance of isotope 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average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et-up and calcul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0.067 amu)(.873) + (21.059 amu)(.106) + (22.073 amu)(.021)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.518          +          2.232              +           .463      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.213 a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- it is between 20 and 22 and closest to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ould also have done with %’s (ex 20.067 x 87.3)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en divided by 100 at the end. Either is f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nswer does not have to match the periodic table (it will be c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basis for thi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seemed lo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based on any experimental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uld have drawn a 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eks liked sphe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fference between philosophy and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verage Atomic Mass     Sample Problem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idea but here we are given numbers of atoms not %’s or abund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 minute sample of gold atoms is analyzed and found to have the following compos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-196 (mass = 195.894 amu) = 208 a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-197 (mass = 196.892 amu) = 981 a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-198 (mass = 197.879 amu) = 129 a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average atomic mass of gold in the sam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et-Up and Solu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ould convert the number of each isotope into a percent or abundance (number of isotope over total. But you don’t hav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–between 196 and 198 (close to 19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95.894 amu)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oms) =   40745.95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(196.892 amu)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8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oms) = 193151.05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+(197.879 amu)(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129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atoms) =   25526.3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9423.395 amu /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31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tal ato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check for “reasonablenes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617400" y="5791320"/>
            <a:ext cx="19926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96.831 a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it Wrap-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all the people and what they contribu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dates are required but should know general order of things and rough ideas of tim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any experiment described in detail (I have seen the tes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ble to interpret atomic symb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it Wrap-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ble to do average atomic mass calculations (know how to check for reasonableness of an answ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ble to describe what isotopes are and recognize if two atoms are isotopes of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“salmon” study guide to make sure you haven’t left out any topic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ntoine Lavoisier’s Contribution (late 1700’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__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conclusions and theories o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___________________________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not just conjectures or hunches that “seemed”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Lavoisier's Lab"/>
          <p:cNvPicPr/>
          <p:nvPr/>
        </p:nvPicPr>
        <p:blipFill>
          <a:blip r:embed="rId1"/>
          <a:stretch/>
        </p:blipFill>
        <p:spPr>
          <a:xfrm>
            <a:off x="4495680" y="1828800"/>
            <a:ext cx="4648320" cy="3635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4479840" y="5486400"/>
            <a:ext cx="443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506840" y="5562720"/>
            <a:ext cx="46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ecreation of Lavoisier’s 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avoisier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good idea to be a tax collector around the time of the French r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6" descr="Lavoisier 2 (head on)"/>
          <p:cNvPicPr/>
          <p:nvPr/>
        </p:nvPicPr>
        <p:blipFill>
          <a:blip r:embed="rId1"/>
          <a:stretch/>
        </p:blipFill>
        <p:spPr>
          <a:xfrm>
            <a:off x="5029200" y="1295280"/>
            <a:ext cx="3649680" cy="2563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Lavoisier 2 (head off)"/>
          <p:cNvPicPr/>
          <p:nvPr/>
        </p:nvPicPr>
        <p:blipFill>
          <a:blip r:embed="rId2"/>
          <a:stretch/>
        </p:blipFill>
        <p:spPr>
          <a:xfrm>
            <a:off x="5029200" y="4114800"/>
            <a:ext cx="3581280" cy="2017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5029200" y="1523880"/>
            <a:ext cx="17683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Before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Fre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R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5014080" y="4840200"/>
            <a:ext cx="20080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After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Fre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R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Chop, Chop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ohn Dalt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theory in a scientific s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de info- old name for colorblindness was “_______________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d for Dalton as he recognized and described the cond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John Dalton"/>
          <p:cNvPicPr/>
          <p:nvPr/>
        </p:nvPicPr>
        <p:blipFill>
          <a:blip r:embed="rId1"/>
          <a:stretch/>
        </p:blipFill>
        <p:spPr>
          <a:xfrm>
            <a:off x="1219320" y="1676520"/>
            <a:ext cx="2692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alton’s Atomic The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his theory on experimental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______________ are composed of indivisible particles called a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toms of an element are _________________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of ___________ elements are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can mix _________or combine _______ in _____________number ratios to form comp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eactions, atoms ____________ what they are combined with, but an atom never changes into a different type of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22:11:04Z</dcterms:created>
  <dc:creator>Lgotlib</dc:creator>
  <dc:description/>
  <dc:language>en-US</dc:language>
  <cp:lastModifiedBy>asalla</cp:lastModifiedBy>
  <dcterms:modified xsi:type="dcterms:W3CDTF">2009-09-22T19:27:00Z</dcterms:modified>
  <cp:revision>45</cp:revision>
  <dc:subject/>
  <dc:title>An introduction to atomic structure (with a bit of history thrown in)</dc:title>
</cp:coreProperties>
</file>